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2C56-1575-4ED4-9F4B-124D274DF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0DAB-0BE0-4276-AB60-01D47849D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E78A-8848-4177-8398-0186D4E56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35F5-7553-44C3-BC34-61FB5808B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66D9-B81A-4134-A294-D5AB6B068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B6B0-7C5C-48F1-B3C3-DC3BDB0D6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E512-6BDE-49CD-90A4-D28D51B80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325C-B0AD-49C0-B87E-63E53A98D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BBBA-CFF3-46A0-9530-008750AF9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535F-C968-4B71-9505-D83C45F13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0E11-6F66-4BB7-9703-60CC19505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9F6A-CC63-468D-85F3-9EC063186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0DA2-9439-4D57-A57F-309E1C5FC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8891-2221-456D-8060-6E65D1EB6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C3E3-03A5-4F04-8AF9-8EBE65FA4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4B0E-95B7-4D0A-9C35-26DF4B7CD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7240" y="221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фармације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В18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РМАКОЛОГИЈ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ФАРМАКОЛОГИЈА ХОРМОНА ХИПОТАЛАМУСА И ХИПОФИЗ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нед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32000" y="5286240"/>
            <a:ext cx="657216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ф. др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хајло Јаковљ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7240" y="221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фармације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РМАКОЛОГИЈ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Тиреоидни хормони и антитиреоидни лекови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тицај лекова на биохемијске маркере функције штитасте жлезде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нед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32000" y="5286240"/>
            <a:ext cx="657216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ф. др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хајло Јаковљ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Основне сврхе хормоналне терап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ечење снижене функције неке ендокрине жлезде – надокнада мањка датог хормона (додавање Г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мањивање прекомерне функције неке ендокрине жлезде (аминоглутетими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ункционални дијагностички тестови (давање ТС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ечење неендокриних обољења (кортикостероиди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Штитаста жл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лога у контроли општег баланса катаболизма (сагоревања) и анаболизма (синтезе) посредством утицаја на активност великог броја гена и следствено кључних метаболичких енз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војни значај за раст тела и сазревање мозга синхроно са хормоном раста и инсулином током детињ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Терапија хипотиреоидизма – сниженог лучења Т3 и Т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рална надокнада хормона добијених синтетским путем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евотироксин натријум - Т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отиронин натријум – Т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отрикс (4:1 мешави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диционално добијани млевењем осушених анималних жлезда, данас углавном синтетски – нижа стопа алергијских реакција и поузданије дозир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Терапија хипертиреоидизма – повећаног лучења Т3 и Т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д хируршке и радијационе аблације дела ткива жлезде имамо и фармаколошке процедуре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адиактивни јод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, изотоп 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131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– изазива некрозу ткива , тешко одмерити дозу јер често наступа касни јатрогени хипотиреоидизам или је ефекат непотпу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Тиоамиди / Тиоуреилени – инхибиција синтезе хормона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ремете пероксидазу која врши органификацију јода)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(карбимазол.метимазол.пропилтиоураци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Јонски блокатори преузимања јод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(тиоцијанат и перхлора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имена адренергичких бета блок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Јони литијума –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рз ефекат супресије јодидима узроковане тиреотоксико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имена соли јода и јодних контрастних средстава (РТ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Луголов раствор, јоподат, јопаноинска кисел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ојава и лечење тиреотоксичне олу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пранолол 1-2 мг интравенски + 40-80 мг пер ос - спречавање срчаних аритмија услед појачаног ефекта катехоламина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одид интравенски у циљу заустављања ослобађања Т</a:t>
            </a:r>
            <a:r>
              <a:rPr b="0" lang="sr-C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и Т</a:t>
            </a:r>
            <a:r>
              <a:rPr b="0" lang="sr-C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тимазол или пропилтиоурацил у циљу заустављања даље синтезе Т</a:t>
            </a:r>
            <a:r>
              <a:rPr b="0" lang="sr-C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и Т</a:t>
            </a:r>
            <a:r>
              <a:rPr b="0" lang="sr-C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идрокортизон 50 мг интравенски , превенција циркулаторног ш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јализа - метод крајњег изб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Место  хипоталамуса и хипофизе у хуманом мозг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штићен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редишњ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положај у еволутивно старом међумозгу, бочно и испод пода треће мождане комо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ма жлезда смештена у коштаном “турском седлу” изнад клинастог синуса у геометријском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центру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об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ипоталамус – мотор нагонског аутоматизма (глад,жеђ, матерински и нагон за размножавање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у своју улогу остварује контролом ендокрине “осовине” или директним утицајем у вегетативном нервном систе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ојам хорм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ормон је биолошки активно једињење које ствара и лучи једно ткиво (ендокрина жлезда) и потом га ослобађа у крвоток да би посредством њега пренело “поруку” (остварило утицај) у удаљеним другим циљним ткив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ормон је хемијски сигнал-сложена информација у ендокрином као што су неуротрансмитери у нервном и цитокини у имуном систе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и они одражавају природни начин уређења односа у вишећелијском еукариотском организ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Основне сврхе хормоналне терап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пституција – надокнада мањка датог хормона (додавање Г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мањивање прекомерне функције неке ендокрине жлезде (аминоглутетими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ункционални дијагностички тестови (давање ТС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ечење неендокриних обољења (кортикостероиди и аутоимунос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одукти секреције хипоталам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287080"/>
            <a:ext cx="4619520" cy="10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слобађајући” и “успављујући” фактори намењени хипофи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524480" y="2205000"/>
            <a:ext cx="461952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Хормони пореклом из хипоталамуса ослобођени у регији неурохипофи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50920" y="3860640"/>
            <a:ext cx="4619520" cy="10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n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H / GR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H / PR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RH/M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4524480" y="3789360"/>
            <a:ext cx="461952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ДХ – вазопрес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кситоц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одукти секреције хипофи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S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– фоликулогенеза , лучење естрог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H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– настанак жутог тела јајника , лучење тестостер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H (STH)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– општи раст посредством јетриних соматомедин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GF1 , IGF2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SH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– стимулација тиреоид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олактин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– лучење млека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TH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– стероидогенеза у кори надбубрежме жлез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SH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ланостимулирајући хорм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Терапијска решења у примени 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оматотропин / соматрем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– патуљаст ра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оматостатин / октреоид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ромегалија, гигантизам , АПУД-оми , ГИТ крвар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егвисомант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ГХ антагонист) - акромегал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Антагонисти пролактин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– допамински Д2 агонисти(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бромокриптин,карбеголид,перголид,квинаголид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 – активни аденоми хипофи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ортикотропин/косинтропи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АЦТХ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само у дијагностиц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Терапијска решења у примени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ХМГ – хумани менопаузални гонадотропин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замена з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ФСХ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 – лечење мушког/женског стерилит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ХЦГ – хумани хорионски гонадотропин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замена з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ЛХ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 – индукција овул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Гонадорелини (леупролид,нафарелин, госерелин,хистрели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 – аналози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nRH 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дукција овулације/ јатрогена хормонална кастрација код хормон зависних тумора (ендометриоза , карциноми дојке и простате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Терапијска решења у примени 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Тиротропин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(ТСХ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– дијагностика и терапија потенцијално метастатског карцинома жлезде у комбинацији са 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13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диоактивним ј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АДХ – вазопресин / липресин / дезмопресин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– лечење диабетес инспидуса, крварења из варикозних вена једњ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кситоцин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– индукција порођаја , заустављање постпарталних крварењ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Антагонисти окситоцина (атосибан) 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венција спонтаног побачаја и превременог порођа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User</cp:lastModifiedBy>
  <dcterms:modified xsi:type="dcterms:W3CDTF">2017-09-14T21:58:15Z</dcterms:modified>
  <cp:revision>32</cp:revision>
  <dc:subject/>
  <dc:title>Slide 1</dc:title>
</cp:coreProperties>
</file>